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D7F-FA97-4B52-8C57-07DBD12C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90A-7D51-419A-9689-29ADB583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DEF-6941-47B6-8F15-DCB8E182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A2A-3345-4040-AE30-AEAE794E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8D1-A7AA-43A9-807C-298EA7B4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507-5CA5-434F-8D9A-12924BAF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D40-727A-40BC-8115-41AE87C0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99B-809D-4B36-A27F-5BBD8ECA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B28-F794-4845-9319-2B58BA11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D16-3F9A-4ECE-805F-1116798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E13-37B6-418D-8106-EA4F79E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4D6-1A97-455E-844A-94FCA1F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430F-FD8A-4695-BE91-4578B865A4F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10 Nunavut: Changing the Map of 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8000" y="2637000"/>
            <a:ext cx="403236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356000" y="2637000"/>
            <a:ext cx="4537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navut: The Changing of the Ti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unavut means “Our Land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opulation: 34, 15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Language: Inuktitut (which means “In the manner of the Inuit”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Climate: Arctic to Subarctic.  Very long and very cold winters.  Summers are brief and c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erage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January: Early Morning -30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July: 11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every 1000 people there are 80 have cars (Canada 46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907920"/>
          <a:ext cx="8147160" cy="574200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t of Canad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nav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zen Egg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.7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.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g of Potato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.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.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(2L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.7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5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l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.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.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pers (54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3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.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fore the land was Nunavut, the Inuit people lived off the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nuit living off the land was like a relationship between a baby and a 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uit lived as nomads.  That means moving from place to place to follow the migration routes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619280" y="1519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2755800" y="5761080"/>
            <a:ext cx="3175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14680" y="1700280"/>
            <a:ext cx="5715000" cy="34574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3333600" y="4956120"/>
            <a:ext cx="2470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616720" cy="29401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3535200" y="4748040"/>
            <a:ext cx="2073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18508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3" descr=""/>
          <p:cNvPicPr/>
          <p:nvPr/>
        </p:nvPicPr>
        <p:blipFill>
          <a:blip r:embed="rId2"/>
          <a:stretch/>
        </p:blipFill>
        <p:spPr>
          <a:xfrm>
            <a:off x="3376440" y="5035680"/>
            <a:ext cx="238464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navut: The Changing of the Ti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white man has ushered in a new lifestyle in which Inuit must not only live away from the land, but also in comfort and ease, having been introduce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2771640" cy="237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708360" y="4003560"/>
            <a:ext cx="272412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3" descr=""/>
          <p:cNvPicPr/>
          <p:nvPr/>
        </p:nvPicPr>
        <p:blipFill>
          <a:blip r:embed="rId3"/>
          <a:stretch/>
        </p:blipFill>
        <p:spPr>
          <a:xfrm>
            <a:off x="6151680" y="3859200"/>
            <a:ext cx="30780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navut: The Changing of the Ti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360" y="1409760"/>
            <a:ext cx="4286520" cy="302724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3" descr=""/>
          <p:cNvPicPr/>
          <p:nvPr/>
        </p:nvPicPr>
        <p:blipFill>
          <a:blip r:embed="rId2"/>
          <a:stretch/>
        </p:blipFill>
        <p:spPr>
          <a:xfrm>
            <a:off x="328680" y="4535640"/>
            <a:ext cx="2511360" cy="156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4554360" y="1557360"/>
            <a:ext cx="433872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4" descr=""/>
          <p:cNvPicPr/>
          <p:nvPr/>
        </p:nvPicPr>
        <p:blipFill>
          <a:blip r:embed="rId4"/>
          <a:stretch/>
        </p:blipFill>
        <p:spPr>
          <a:xfrm>
            <a:off x="4187880" y="4535640"/>
            <a:ext cx="47736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navut: The Changing of the Ti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4356000" cy="33843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3" descr=""/>
          <p:cNvPicPr/>
          <p:nvPr/>
        </p:nvPicPr>
        <p:blipFill>
          <a:blip r:embed="rId2"/>
          <a:stretch/>
        </p:blipFill>
        <p:spPr>
          <a:xfrm>
            <a:off x="487440" y="4780080"/>
            <a:ext cx="3371760" cy="2382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392720" cy="34146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4"/>
          <a:stretch/>
        </p:blipFill>
        <p:spPr>
          <a:xfrm>
            <a:off x="4992840" y="4913280"/>
            <a:ext cx="37731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3:38:06Z</dcterms:created>
  <dc:creator>Jason</dc:creator>
  <dc:description/>
  <dc:language>en-US</dc:language>
  <cp:lastModifiedBy>Jason</cp:lastModifiedBy>
  <dcterms:modified xsi:type="dcterms:W3CDTF">2011-05-19T00:18:41Z</dcterms:modified>
  <cp:revision>5</cp:revision>
  <dc:subject/>
  <dc:title>3.10 Nunavut: Changing the Map of Canada</dc:title>
</cp:coreProperties>
</file>